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474-A7CF-41A9-A622-E7B6BEE1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7BD-C288-4948-B222-13615EE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C98-914E-4795-9A52-D7EC5792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22E-C42A-4667-B775-F7282647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EBF-99BC-4616-8BE4-73383BCE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2E8-77DF-4727-A8F6-3F23FF0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48E-9961-4BF5-8ED5-E8D6B703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3C5-34F3-4396-8470-F77F94D6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DAA-F6F0-4C4E-8473-7DE6F713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C05-8590-4AAF-A3AD-76455D2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190-3E43-474D-94DE-268C9AD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02E-9257-4C05-955D-008B186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53C-43BC-485C-B800-EF131B82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73360"/>
            <a:ext cx="57549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ssil fuels / crude oil / geologic formations beneath the Earth / coal / layers, veins, coal seams / natural gas / natural mixture of gases / primarily methane / biofuels / bioethanol / alcohol made by fermentation from carbohydrates / Biodiesel / vegetable oils / animal fats / wind power / conversion wind energy / wind turbines / wind generators / make electricity / offshore wind power / harness / better wind speeds / offshore compared to on land / solar power /conversion sunlight / into electricity / directly / using photovoltaics / indirectly / concentrated solar power / using lenses or mirrors / to focus sunlight /hydropower / energy of falling water / comes from potential energy / driving water to turbine / gener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549360"/>
            <a:ext cx="56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next  text boxes by using the following words and phrases (they are not in order with regard to the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431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663640" cy="202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35772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429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80536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437000"/>
            <a:ext cx="266400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Giant photovoltaic array.jpg"/>
          <p:cNvPicPr/>
          <p:nvPr/>
        </p:nvPicPr>
        <p:blipFill>
          <a:blip r:embed="rId1"/>
          <a:stretch/>
        </p:blipFill>
        <p:spPr>
          <a:xfrm>
            <a:off x="826920" y="3500280"/>
            <a:ext cx="40341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PS10 solar power tower.jpg"/>
          <p:cNvPicPr/>
          <p:nvPr/>
        </p:nvPicPr>
        <p:blipFill>
          <a:blip r:embed="rId2"/>
          <a:stretch/>
        </p:blipFill>
        <p:spPr>
          <a:xfrm>
            <a:off x="3708360" y="260280"/>
            <a:ext cx="48466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58920" y="62064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378936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4869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rchivo:Turbiny wiatrowe ubt.jpeg"/>
          <p:cNvPicPr/>
          <p:nvPr/>
        </p:nvPicPr>
        <p:blipFill>
          <a:blip r:embed="rId1"/>
          <a:stretch/>
        </p:blipFill>
        <p:spPr>
          <a:xfrm>
            <a:off x="900000" y="333360"/>
            <a:ext cx="3484800" cy="206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Archivo:Windmills D1-D4 (Thornton Bank).jpg"/>
          <p:cNvPicPr/>
          <p:nvPr/>
        </p:nvPicPr>
        <p:blipFill>
          <a:blip r:embed="rId2"/>
          <a:stretch/>
        </p:blipFill>
        <p:spPr>
          <a:xfrm>
            <a:off x="5364000" y="2133720"/>
            <a:ext cx="292752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59280" y="54936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06864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11480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981000"/>
            <a:ext cx="2376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321080" cy="398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76720" y="4653000"/>
            <a:ext cx="237672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3280" y="692280"/>
          <a:ext cx="368640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692280"/>
                    <a:ext cx="36864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8:21:48Z</dcterms:created>
  <dc:creator>Rafael Moreno</dc:creator>
  <dc:description/>
  <dc:language>en-US</dc:language>
  <cp:lastModifiedBy>Rafael Moreno</cp:lastModifiedBy>
  <dcterms:modified xsi:type="dcterms:W3CDTF">2012-01-11T18:49:01Z</dcterms:modified>
  <cp:revision>4</cp:revision>
  <dc:subject/>
  <dc:title>Diapositiva 1</dc:title>
</cp:coreProperties>
</file>